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751C-4670-4294-80AB-A703B151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E5588-CABF-44D2-89B0-616D9FD3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BCD66-2CDC-4E2B-9149-E259D089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38AA5-FFBC-44CD-BDBE-1DA2808E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2381-BDC2-42DC-9BD1-0F3515C8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0310-FED1-47CB-918A-C220C9A5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3A76-8B13-4BBF-A829-380DB51F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8879-126D-440D-9891-AB9D9E50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1811-8D67-4C87-8046-7F69A7B8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6F28-E8DF-4DAD-A61F-85753716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5FDE-4AA2-48B4-B5DA-D04A4AEA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A8549-F775-4B91-826D-D85C3AE2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D50E-5EB9-4847-B180-BCA36690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43FA-13AF-4452-AD69-C83F8324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BB4B-E9B4-41B4-90D0-5A40570A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36DC-C487-4172-B729-D637A2BA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AF79-2DED-4DB6-AD22-1818BCF4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EF2CB-20FF-4840-9184-C161DDBF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B89A7-7102-4129-B9F9-257E7121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9364D-CB26-4ED5-AAC0-3E7B40B1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E748A-7251-49A6-B659-01A278F3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7165A-2702-4F71-BE7F-E9A20FB0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98A24-E047-4406-B8D9-84D20B3E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0AE5C-9672-47FE-B321-364FD43A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3E18-0DAE-4FA1-8F4E-EC1F74652A8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C175-1B06-4917-B215-5C29A1C24C3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he Video Rental Indust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ICS 532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mpetition within the Industr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579840" cy="2189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477040" y="1951200"/>
            <a:ext cx="2381040" cy="1485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76360" y="4149720"/>
            <a:ext cx="3800520" cy="1771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846760" y="3941640"/>
            <a:ext cx="1641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ndustry Descrip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nting DVDs and Blu-ray dis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uter video game ren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deo game ren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VD/Blu-ray st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quipment ren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ine stream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nerships with other media such as the Wii, Xbox and Play S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ee options- Hulu, Libra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1:24:01Z</dcterms:created>
  <dc:creator>carrie.kunze</dc:creator>
  <dc:description/>
  <dc:language>en-US</dc:language>
  <cp:lastModifiedBy>carrie.kunze</cp:lastModifiedBy>
  <dcterms:modified xsi:type="dcterms:W3CDTF">2010-04-29T12:03:26Z</dcterms:modified>
  <cp:revision>2</cp:revision>
  <dc:subject/>
  <dc:title>The Video Rental Industry</dc:title>
</cp:coreProperties>
</file>